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254-BC7F-4C18-A7C5-AE53023B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9C91-7BFB-4643-819C-3601476CD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A72E-B9F3-4C79-A976-A3765721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DEA-0F62-4616-B3AC-50EBBBF8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DE7-ED52-4E9D-BE53-B6D86A20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5D1-C098-4716-BA48-772F772C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15F-15A0-4A59-AD3C-21AF6276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AFE-5E01-4B28-85FA-509F45D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C61-64AD-486B-8B70-BA0C5E73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9EE-860B-43AB-99D9-9F4C1A69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BB3-D7A2-4298-936F-8F6E2D9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432-5D8D-45DF-8C02-0753B912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EB4-36B4-4BCC-9BD7-55AD91F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9BD-FCDF-4172-9B34-A9CEF324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142-05FC-4246-B31C-338B26DD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89B2-13EB-4A2A-B74E-6194BCFD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ch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, Holly H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n R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 L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ry R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someone up and throwing them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s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n’t a witch, but they were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floated? (like a c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a 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time, the accused person would struggle and flail around in the water so they’d break free and swim to the top of the water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had a “witchma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like a mole, wart, or discoloration of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tchmark” was considered to be where the devil touch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would poke them with a needle-like object on their “witchmark” and if they felt no pain then they were  said to be a 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bleed then they were 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of a low social status then people sometimes thought that they could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itches we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a studier of medicine, then people thought that they might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punishment for convicted witches was being burned at the stake. This started in Europe in the witch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was known for hanging their witches as well as burn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England forbade it, Scotland sanctioned the torturing of witches in order to receive conf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ing method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walking or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, the act of putting a board on the body and putting weight on it, wa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Witch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ed in Chelmsford, Essex England during 15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 about as a result of pressure from the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rial to be written up in a pamphl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Frances used a cat to inflict harm on Agnes Waterhouse and her daughter Jo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was found guilty and put in jail while Agnes was h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witchh.gif"/>
          <p:cNvPicPr/>
          <p:nvPr/>
        </p:nvPicPr>
        <p:blipFill>
          <a:blip r:embed="rId1"/>
          <a:stretch/>
        </p:blipFill>
        <p:spPr>
          <a:xfrm>
            <a:off x="5562720" y="1295280"/>
            <a:ext cx="2971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in Salem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were accused of witchcraft and 200 were put in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uba, Sarah Good, and Sarah Osbourne were accused of witchcraft and thrown in jail due to Tituba’s con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FTPW0WSL\MC900436216[1].png"/>
          <p:cNvPicPr/>
          <p:nvPr/>
        </p:nvPicPr>
        <p:blipFill>
          <a:blip r:embed="rId1"/>
          <a:stretch/>
        </p:blipFill>
        <p:spPr>
          <a:xfrm>
            <a:off x="38088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Owner\AppData\Local\Microsoft\Windows\Temporary Internet Files\Content.IE5\XOZAUS8J\MC900027392[1].wmf"/>
          <p:cNvPicPr/>
          <p:nvPr/>
        </p:nvPicPr>
        <p:blipFill>
          <a:blip r:embed="rId2"/>
          <a:stretch/>
        </p:blipFill>
        <p:spPr>
          <a:xfrm>
            <a:off x="6858000" y="914400"/>
            <a:ext cx="1908000" cy="14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witch.jpg"/>
          <p:cNvPicPr/>
          <p:nvPr/>
        </p:nvPicPr>
        <p:blipFill>
          <a:blip r:embed="rId3"/>
          <a:stretch/>
        </p:blipFill>
        <p:spPr>
          <a:xfrm>
            <a:off x="2819520" y="3962520"/>
            <a:ext cx="3200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itchcra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agreement hasn’t been reached on what witchcraft was, or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3 definitions that can be used to understand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craft, a form of sorcery, or the magical manipulation of nature for self-aggrandizement, or for the benefit or harm of a client. This manipulation often involves the use of spirit-helpers, or familia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olonists defined witchcraft as “the use of supernatural power, usually but not always for har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ches were considered h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ir powers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some humans were darkly unnatural and possessed supernatural 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ed witches were said to abuse their powers by wreaking havoc o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e for why witchcraft was used was how the term w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ood witchcraft as a relationship between a human being and the dev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for evidence of this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elling Puritans of the pain they felt when warding of Satan’s attempt to lure them they gave useful evidence for thei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ns believe New England witch-craft as a way to express social and cultural anxieties among accusers rather than the harm the accused was ac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, religion, and psychology lent bias to deciphering the meanings of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w them performing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dmitted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HRomero1993\AppData\Local\Microsoft\Windows\Temporary Internet Files\Content.IE5\DU3GFPBJ\MC900436109[1].wmf"/>
          <p:cNvPicPr/>
          <p:nvPr/>
        </p:nvPicPr>
        <p:blipFill>
          <a:blip r:embed="rId1"/>
          <a:stretch/>
        </p:blipFill>
        <p:spPr>
          <a:xfrm>
            <a:off x="2057400" y="2819520"/>
            <a:ext cx="4648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id they determine who were witches (cont’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1371240"/>
            <a:ext cx="5111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s” are given to them by the d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 that wreaked havoc on the surround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ly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amiliars"/>
          <p:cNvPicPr/>
          <p:nvPr/>
        </p:nvPicPr>
        <p:blipFill>
          <a:blip r:embed="rId1"/>
          <a:stretch/>
        </p:blipFill>
        <p:spPr>
          <a:xfrm>
            <a:off x="457200" y="1371600"/>
            <a:ext cx="3017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55:24Z</dcterms:created>
  <dc:creator>aps13.romeiva</dc:creator>
  <dc:description/>
  <dc:language>en-US</dc:language>
  <cp:lastModifiedBy>Daniel D. Robson</cp:lastModifiedBy>
  <dcterms:modified xsi:type="dcterms:W3CDTF">2011-10-25T01:34:03Z</dcterms:modified>
  <cp:revision>29</cp:revision>
  <dc:subject/>
  <dc:title>Witchcraft</dc:title>
</cp:coreProperties>
</file>